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82C4C5C-323B-49FA-89CD-4DD3966E980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9518F41-4673-4F34-9B5B-ACD09CA18F0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42FAA4C-53EC-4522-8F02-E69E9AD21C9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579B011-53E3-4C66-A18C-D1FCDA758AC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 I_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with permission of the IBIS Subcommittee on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royleven</cp:lastModifiedBy>
  <dcterms:modified xsi:type="dcterms:W3CDTF">2006-01-10T16:52:07Z</dcterms:modified>
  <cp:revision>22</cp:revision>
  <dc:subject/>
  <dc:title>Using the IBIS Quality Checklist</dc:title>
</cp:coreProperties>
</file>